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7BD-3D37-4E5F-8637-7F661789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7B7-A632-4B43-B671-321B6B25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BB1-8151-445F-815A-53E03C23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EE9-075A-4A65-863F-68DCD960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C139-068D-423F-8A93-8FD31BF9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565A-2DA1-4D98-9867-5DDF156B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EFBB-6778-4462-B97B-0B47C85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796-5E22-41E0-9E61-F8620FE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845B-FE6A-4926-9C33-F53205D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6BC-A6ED-4F9C-B243-4051FC8C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878-E950-47E6-96B8-88C3924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DC0-AC7B-4B28-8607-B219F0B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C874-0DAD-41AB-9901-DEF21F9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50A-C68D-46E1-BBB0-A665D182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9C7E-8590-4E42-8C29-C97F759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3FB3-8151-4F28-8C5C-B8B375E0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325-B7F0-4FA6-A2C7-59DE0955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D00F-934D-4B17-9D7A-30CFCCE2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1BF9-C74E-447F-BE74-668709F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E07E-0B9F-4F85-82D2-07D7DD6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25CA-447B-4A59-9C32-AB8F85F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6577-C33E-49BB-A554-8FD44237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36A-8880-4C8D-B56D-7B7A453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EAA0-9042-496F-ADDD-28EF444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519E-96B8-4693-9FF6-DFADAC2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A51B-0DE7-4D92-9675-54B9806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A00A-21DA-45EF-83E5-A2B5D0A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7FB2-A3A9-4D30-AD67-F4930EC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66AE-A25D-4641-B0D9-E2D02103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BF7A-744C-4F01-BF10-C815545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D28C9-0330-46DE-B4BC-5D41C671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48433-E82B-403A-8FBE-6624AC6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B41C0-D31C-4B17-BF86-9EF1CE5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2A7-BC7D-4F48-B94E-E0868EEB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FA6F4-9342-4837-978C-694FD39C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07B77-4247-4324-95E2-730521FD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DF879-AC03-49B4-9092-ECF65E3E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7E436-C044-4CC5-B930-4DF2796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F4042-854B-44EB-B409-5CE647F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8B757-995E-49C8-BFF4-C2DE2D7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3FFC5-1661-45FC-9C9D-042CEED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532D7-0141-4292-A63A-58186113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613C7-8BBF-493E-A9F6-CB9C3463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232-D75A-4417-B170-BC548D8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C9E-6DB1-43ED-8BDA-FDDE998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108-A236-40C7-9432-989089F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611-BF73-474E-A9E8-42F5032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A3A-1315-4A82-B369-D899E82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D02-FC3C-407A-973F-B22C399E5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ECB-C947-48F8-86F2-75A7A19D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3B9-D15E-45D5-9CB3-D63C8A201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5B9-903C-4941-8563-C6E3ACB35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Les_escapades_de_Petitrenaud" TargetMode="External"/><Relationship Id="rId3" Type="http://schemas.openxmlformats.org/officeDocument/2006/relationships/hyperlink" Target="http://fr.wikipedia.org/wiki/Les_escapades_de_Petitrenaud" TargetMode="External"/><Relationship Id="rId4" Type="http://schemas.openxmlformats.org/officeDocument/2006/relationships/hyperlink" Target="http://fr.wikipedia.org/wiki/Jean-Luc_Petitrenaud" TargetMode="External"/><Relationship Id="rId5" Type="http://schemas.openxmlformats.org/officeDocument/2006/relationships/hyperlink" Target="http://fr.wikipedia.org/wiki/Jean-Luc_Petitrenaud" TargetMode="External"/><Relationship Id="rId6" Type="http://schemas.openxmlformats.org/officeDocument/2006/relationships/hyperlink" Target="http://fr.wikipedia.org/wiki/Le_Magazine_de_la_sant&#233;" TargetMode="External"/><Relationship Id="rId7" Type="http://schemas.openxmlformats.org/officeDocument/2006/relationships/hyperlink" Target="http://fr.wikipedia.org/wiki/La_maison_France_5" TargetMode="External"/><Relationship Id="rId8" Type="http://schemas.openxmlformats.org/officeDocument/2006/relationships/hyperlink" Target="http://fr.wikipedia.org/wiki/La_maison_France_5" TargetMode="External"/><Relationship Id="rId9" Type="http://schemas.openxmlformats.org/officeDocument/2006/relationships/hyperlink" Target="http://fr.wikipedia.org/wiki/La_maison_France_5" TargetMode="External"/><Relationship Id="rId10" Type="http://schemas.openxmlformats.org/officeDocument/2006/relationships/hyperlink" Target="http://fr.wikipedia.org/wiki/St&#233;phane_Th&#233;baut" TargetMode="External"/><Relationship Id="rId11" Type="http://schemas.openxmlformats.org/officeDocument/2006/relationships/hyperlink" Target="http://fr.wikipedia.org/wiki/St&#233;phane_Th&#233;baut" TargetMode="External"/><Relationship Id="rId12" Type="http://schemas.openxmlformats.org/officeDocument/2006/relationships/hyperlink" Target="http://fr.wikipedia.org/wiki/St&#233;phane_Th&#233;baut" TargetMode="External"/><Relationship Id="rId13" Type="http://schemas.openxmlformats.org/officeDocument/2006/relationships/hyperlink" Target="http://fr.wikipedia.org/wiki/Revu_et_corrig&#233;" TargetMode="External"/><Relationship Id="rId14" Type="http://schemas.openxmlformats.org/officeDocument/2006/relationships/hyperlink" Target="http://fr.wikipedia.org/wiki/Revu_et_corrig&#233;" TargetMode="External"/><Relationship Id="rId15" Type="http://schemas.openxmlformats.org/officeDocument/2006/relationships/hyperlink" Target="http://fr.wikipedia.org/wiki/Revu_et_corrig&#233;" TargetMode="External"/><Relationship Id="rId16" Type="http://schemas.openxmlformats.org/officeDocument/2006/relationships/hyperlink" Target="http://fr.wikipedia.org/wiki/Paul_Amar" TargetMode="External"/><Relationship Id="rId17" Type="http://schemas.openxmlformats.org/officeDocument/2006/relationships/hyperlink" Target="http://fr.wikipedia.org/wiki/Paul_Amar" TargetMode="External"/><Relationship Id="rId18" Type="http://schemas.openxmlformats.org/officeDocument/2006/relationships/hyperlink" Target="http://fr.wikipedia.org/wiki/Silence,_&#231;a_pousse_!" TargetMode="External"/><Relationship Id="rId19" Type="http://schemas.openxmlformats.org/officeDocument/2006/relationships/hyperlink" Target="http://fr.wikipedia.org/wiki/Silence,_&#231;a_pousse_!" TargetMode="External"/><Relationship Id="rId20" Type="http://schemas.openxmlformats.org/officeDocument/2006/relationships/hyperlink" Target="http://fr.wikipedia.org/wiki/Silence,_&#231;a_pousse_!" TargetMode="External"/><Relationship Id="rId21" Type="http://schemas.openxmlformats.org/officeDocument/2006/relationships/hyperlink" Target="http://fr.wikipedia.org/wiki/Silence,_&#231;a_pousse_!" TargetMode="External"/><Relationship Id="rId22" Type="http://schemas.openxmlformats.org/officeDocument/2006/relationships/hyperlink" Target="http://fr.wikipedia.org/wiki/Silence,_&#231;a_pousse_!" TargetMode="External"/><Relationship Id="rId23" Type="http://schemas.openxmlformats.org/officeDocument/2006/relationships/hyperlink" Target="http://fr.wikipedia.org/wiki/No&#235;lle_Br&#233;ham" TargetMode="External"/><Relationship Id="rId24" Type="http://schemas.openxmlformats.org/officeDocument/2006/relationships/hyperlink" Target="http://fr.wikipedia.org/wiki/No&#235;lle_Br&#233;ham" TargetMode="External"/><Relationship Id="rId25" Type="http://schemas.openxmlformats.org/officeDocument/2006/relationships/hyperlink" Target="http://fr.wikipedia.org/wiki/No&#235;lle_Br&#233;ham" TargetMode="External"/><Relationship Id="rId26" Type="http://schemas.openxmlformats.org/officeDocument/2006/relationships/hyperlink" Target="http://fr.wikipedia.org/wiki/St&#233;phane_Marie" TargetMode="External"/><Relationship Id="rId27" Type="http://schemas.openxmlformats.org/officeDocument/2006/relationships/hyperlink" Target="http://fr.wikipedia.org/wiki/St&#233;phane_Marie" TargetMode="External"/><Relationship Id="rId28" Type="http://schemas.openxmlformats.org/officeDocument/2006/relationships/hyperlink" Target="http://fr.wikipedia.org/wiki/La_Travers&#233;e_du_miroir" TargetMode="External"/><Relationship Id="rId29" Type="http://schemas.openxmlformats.org/officeDocument/2006/relationships/hyperlink" Target="http://fr.wikipedia.org/wiki/La_Travers&#233;e_du_miroir" TargetMode="External"/><Relationship Id="rId30" Type="http://schemas.openxmlformats.org/officeDocument/2006/relationships/hyperlink" Target="http://fr.wikipedia.org/wiki/La_Travers&#233;e_du_miroir" TargetMode="External"/><Relationship Id="rId31" Type="http://schemas.openxmlformats.org/officeDocument/2006/relationships/hyperlink" Target="http://fr.wikipedia.org/wiki/La_Travers&#233;e_du_miroir" TargetMode="External"/><Relationship Id="rId32" Type="http://schemas.openxmlformats.org/officeDocument/2006/relationships/hyperlink" Target="http://fr.wikipedia.org/wiki/La_Travers&#233;e_du_miroir" TargetMode="External"/><Relationship Id="rId33" Type="http://schemas.openxmlformats.org/officeDocument/2006/relationships/hyperlink" Target="http://fr.wikipedia.org/wiki/La_Travers&#233;e_du_miroir" TargetMode="External"/><Relationship Id="rId34" Type="http://schemas.openxmlformats.org/officeDocument/2006/relationships/hyperlink" Target="http://fr.wikipedia.org/wiki/Patrick_Poivre_d%27Arvor" TargetMode="External"/><Relationship Id="rId35" Type="http://schemas.openxmlformats.org/officeDocument/2006/relationships/hyperlink" Target="http://fr.wikipedia.org/wiki/Patrick_Poivre_d%27Arvor" TargetMode="External"/><Relationship Id="rId36" Type="http://schemas.openxmlformats.org/officeDocument/2006/relationships/hyperlink" Target="http://fr.wikipedia.org/wiki/Patrick_Poivre_d%27Arvor" TargetMode="External"/><Relationship Id="rId37" Type="http://schemas.openxmlformats.org/officeDocument/2006/relationships/hyperlink" Target="http://fr.wikipedia.org/wiki/Patrick_Poivre_d%27Arvor" TargetMode="External"/><Relationship Id="rId38" Type="http://schemas.openxmlformats.org/officeDocument/2006/relationships/hyperlink" Target="http://fr.wikipedia.org/wiki/Zouzous" TargetMode="External"/><Relationship Id="rId39" Type="http://schemas.openxmlformats.org/officeDocument/2006/relationships/image" Target="../media/image8.jpeg"/><Relationship Id="rId4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3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4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5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6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7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8" Type="http://schemas.openxmlformats.org/officeDocument/2006/relationships/hyperlink" Target="http://www.france5.fr/la-grande-librairie/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 Black"/>
              </a:rPr>
              <a:t>Les televisions en Franc</a:t>
            </a:r>
            <a:r>
              <a:rPr b="1" lang="ro-RO" sz="6000" spc="-1" strike="noStrike">
                <a:solidFill>
                  <a:srgbClr val="00800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79680" y="3933360"/>
            <a:ext cx="4819680" cy="16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"/>
              </a:rPr>
              <a:t>France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Imagine 5" descr="untitled.bmp"/>
          <p:cNvPicPr/>
          <p:nvPr/>
        </p:nvPicPr>
        <p:blipFill>
          <a:blip r:embed="rId1"/>
          <a:stretch/>
        </p:blipFill>
        <p:spPr>
          <a:xfrm>
            <a:off x="4952880" y="3048120"/>
            <a:ext cx="238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YPES DE PROGRAMMES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Animateurs  </a:t>
            </a: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        - D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miss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Des Documentir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Actu </a:t>
            </a: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ociet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D”Histoire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217152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gramme T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Les aventures de Geranimo  Stilt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Les zouz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Isoler sa maison por l”exterie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France 5 emplo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Substituent conținut 12" descr="jp3hh72w.jpg"/>
          <p:cNvPicPr/>
          <p:nvPr/>
        </p:nvPicPr>
        <p:blipFill>
          <a:blip r:embed="rId1"/>
          <a:stretch/>
        </p:blipFill>
        <p:spPr>
          <a:xfrm>
            <a:off x="4397400" y="4599000"/>
            <a:ext cx="3929040" cy="569880"/>
          </a:xfrm>
          <a:prstGeom prst="rect">
            <a:avLst/>
          </a:prstGeom>
          <a:ln w="0">
            <a:noFill/>
          </a:ln>
        </p:spPr>
      </p:pic>
      <p:pic>
        <p:nvPicPr>
          <p:cNvPr id="188" name="Substituent conținut 11" descr="geronimo-stilton-408830.jpg"/>
          <p:cNvPicPr/>
          <p:nvPr/>
        </p:nvPicPr>
        <p:blipFill>
          <a:blip r:embed="rId2"/>
          <a:stretch/>
        </p:blipFill>
        <p:spPr>
          <a:xfrm>
            <a:off x="5816520" y="1905120"/>
            <a:ext cx="2129040" cy="2038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5880"/>
          </a:xfrm>
          <a:prstGeom prst="rect">
            <a:avLst/>
          </a:prstGeom>
          <a:solidFill>
            <a:srgbClr val="2ac21e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00"/>
                </a:solidFill>
                <a:latin typeface="Tahoma"/>
              </a:rPr>
              <a:t>Information 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s Zouz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était une série d'émissions pour la jeunesse diffuse sur La Cinquième puis France 5, composée de trois volets en fonction de la plage horai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-34704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676240" cy="1704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vrir une sess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es escapades de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itrenau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culinaire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Jean-Luc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etitrenau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Le Magazine de la santé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La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maison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 France 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Stéphan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Thébau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Revu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 et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corrigé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d'information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aul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Ama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Silence,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ç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ouss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 !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Noëll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Bréha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Stéphan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 Mari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La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Traversé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du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miroi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culturel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Patrick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Poivr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d'Arvo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Zouzou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émission jeuness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9"/>
          <a:stretch/>
        </p:blipFill>
        <p:spPr>
          <a:xfrm>
            <a:off x="1066680" y="3809880"/>
            <a:ext cx="5791320" cy="2824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Question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aison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sur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France 5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a Grande Librairi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est un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émission littérair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présentée par François Busnel et diffusée sur France 5 depuis septembre 200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'émission est diffusée en direct et a lieu en public. De format 60 minutes, elle est réalisée par Adrien Soland et produite par Équipage. Le dessinateur Jul ponctue les interviews de François Busnel par des dessins humoristiq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La grande librairi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71600" y="3962520"/>
            <a:ext cx="681984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NOUS AIMONS FRANCE 5 !!!!!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i="1" lang="fr-FR" sz="4000" spc="-1" strike="noStrike" u="sng">
                <a:solidFill>
                  <a:srgbClr val="2ac21e"/>
                </a:solidFill>
                <a:uFillTx/>
                <a:latin typeface="Tahoma"/>
              </a:rPr>
              <a:t>Nou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2ac21e"/>
                </a:solidFill>
                <a:uFillTx/>
                <a:latin typeface="Tahoma"/>
              </a:rPr>
              <a:t>aimons 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2ac21e"/>
                </a:solidFill>
                <a:uFillTx/>
                <a:latin typeface="Tahoma"/>
              </a:rPr>
              <a:t>canal parce que c'est intéressant et  les programmes éducatifs sont pour tout le monde . </a:t>
            </a:r>
            <a:br>
              <a:rPr sz="4000"/>
            </a:br>
            <a:r>
              <a:rPr b="0" i="1" lang="fr-FR" sz="4400" spc="-1" strike="noStrike">
                <a:solidFill>
                  <a:srgbClr val="ffffff"/>
                </a:solidFill>
                <a:latin typeface="Tahoma"/>
              </a:rPr>
              <a:t>Nous avons appris des nouveaux mot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828800" y="3048120"/>
            <a:ext cx="387684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SOMCUTUL MIC</cp:lastModifiedBy>
  <dcterms:modified xsi:type="dcterms:W3CDTF">2011-11-08T23:51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